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505-CF66-4E23-A3BA-1B5F052C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D54-5DE5-4434-B4B4-EB512ACA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7BF-124C-4161-B616-C201DD53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A2A-353F-4516-B096-CE8F83F3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F663-8763-4C86-9288-359D9DD8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9C1F-2C0C-43D6-9B6A-54C31CCD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E147-2D54-4225-8B1C-A99579AE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F932-175D-403B-A780-BACFFD94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DB05-15BE-4C2D-B1DE-238E0533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9B8E-D51F-4EDE-8A0E-2EA40E4B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7AFC-645F-4830-91F4-A9486285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5A5-A43E-4AD3-89AE-29BF7426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8B4A-962F-41F5-9AA0-BDFFEB8A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9A28-18CE-4F07-90D1-9890FA98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8D5A-69EA-4C05-BD80-6BDE17E5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73E8-08FE-465D-B6B4-4A8010AE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768A-EEE8-4484-8544-3F0DD23D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5E9-B41A-4004-9CB9-710937D5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E67-0E1F-435E-9B91-D02DCA53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14B-D3F6-4887-8874-EB33E3A5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2A9-B681-4D4A-BC44-D0123ABF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440-F5C5-4AAF-B2DA-C73B1B75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6E7-B041-4891-ADC7-C4457C66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23F-571F-4987-8BB5-5C34EEAC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B176-C3F2-4DD6-A652-51AD80ABCB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C4EC-C66E-4100-8344-433BB3DC92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81080" y="3657600"/>
            <a:ext cx="457200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6666"/>
                </a:solidFill>
                <a:latin typeface="Arial"/>
              </a:rPr>
              <a:t>Доц. др Катарина Парезановић Или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3366"/>
                </a:solidFill>
                <a:latin typeface="Arial"/>
              </a:rPr>
              <a:t>ЕВАЛУАЦИЈА БОЛЕСНИКА СА ДЕФОРМИТЕТОМ КИЧМЕНОГ СТУБА- СКОЛИОЗ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67640" y="692640"/>
            <a:ext cx="8084880" cy="9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6666"/>
                </a:solidFill>
                <a:latin typeface="Arial"/>
              </a:rPr>
              <a:t>Мерење</a:t>
            </a:r>
            <a:r>
              <a:rPr b="1" lang="sr-Latn-C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6666"/>
                </a:solidFill>
                <a:latin typeface="Arial"/>
              </a:rPr>
              <a:t>ротације</a:t>
            </a:r>
            <a:r>
              <a:rPr b="1" lang="sr-Latn-C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6666"/>
                </a:solidFill>
                <a:latin typeface="Arial"/>
              </a:rPr>
              <a:t>кичмених</a:t>
            </a:r>
            <a:r>
              <a:rPr b="1" lang="sr-Latn-C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6666"/>
                </a:solidFill>
                <a:latin typeface="Arial"/>
              </a:rPr>
              <a:t>пршљенова</a:t>
            </a:r>
            <a:r>
              <a:rPr b="1" lang="sr-Latn-C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6666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6666"/>
                </a:solidFill>
                <a:latin typeface="Arial"/>
              </a:rPr>
              <a:t>сколиотичној</a:t>
            </a:r>
            <a:r>
              <a:rPr b="1" lang="sr-Latn-C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6666"/>
                </a:solidFill>
                <a:latin typeface="Arial"/>
              </a:rPr>
              <a:t>кривини</a:t>
            </a:r>
            <a:r>
              <a:rPr b="1" lang="sr-Latn-C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6666"/>
                </a:solidFill>
                <a:latin typeface="Arial"/>
              </a:rPr>
              <a:t>према</a:t>
            </a:r>
            <a:r>
              <a:rPr b="1" lang="sr-Latn-CS" sz="1800" spc="-1" strike="noStrike">
                <a:solidFill>
                  <a:srgbClr val="006666"/>
                </a:solidFill>
                <a:latin typeface="Arial"/>
              </a:rPr>
              <a:t> Nash i Moe </a:t>
            </a:r>
            <a:r>
              <a:rPr b="1" lang="sr-CS" sz="1800" spc="-1" strike="noStrike">
                <a:solidFill>
                  <a:srgbClr val="006666"/>
                </a:solidFill>
                <a:latin typeface="Arial"/>
              </a:rPr>
              <a:t>из</a:t>
            </a:r>
            <a:r>
              <a:rPr b="1" lang="sr-Latn-CS" sz="1800" spc="-1" strike="noStrike">
                <a:solidFill>
                  <a:srgbClr val="006666"/>
                </a:solidFill>
                <a:latin typeface="Arial"/>
              </a:rPr>
              <a:t>: Gotze (1990)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207040" y="3056040"/>
            <a:ext cx="2874960" cy="23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838080" y="2919240"/>
            <a:ext cx="3775320" cy="2610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40720" y="621360"/>
            <a:ext cx="8084880" cy="9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6666"/>
                </a:solidFill>
                <a:latin typeface="Arial"/>
              </a:rPr>
              <a:t>Мерење</a:t>
            </a:r>
            <a:r>
              <a:rPr b="1" lang="sr-Latn-C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6666"/>
                </a:solidFill>
                <a:latin typeface="Arial"/>
              </a:rPr>
              <a:t>ротације</a:t>
            </a:r>
            <a:r>
              <a:rPr b="1" lang="sr-Latn-C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6666"/>
                </a:solidFill>
                <a:latin typeface="Arial"/>
              </a:rPr>
              <a:t>пршљенског</a:t>
            </a:r>
            <a:r>
              <a:rPr b="1" lang="sr-Latn-C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6666"/>
                </a:solidFill>
                <a:latin typeface="Arial"/>
              </a:rPr>
              <a:t>тела</a:t>
            </a:r>
            <a:r>
              <a:rPr b="1" lang="sr-Latn-CS" sz="2000" spc="-1" strike="noStrike">
                <a:solidFill>
                  <a:srgbClr val="006666"/>
                </a:solidFill>
                <a:latin typeface="Arial"/>
              </a:rPr>
              <a:t> – </a:t>
            </a:r>
            <a:r>
              <a:rPr b="1" lang="sr-CS" sz="2000" spc="-1" strike="noStrike">
                <a:solidFill>
                  <a:srgbClr val="006666"/>
                </a:solidFill>
                <a:latin typeface="Arial"/>
              </a:rPr>
              <a:t>графички</a:t>
            </a:r>
            <a:r>
              <a:rPr b="1" lang="sr-Latn-C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6666"/>
                </a:solidFill>
                <a:latin typeface="Arial"/>
              </a:rPr>
              <a:t>приказ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71240" y="2895120"/>
            <a:ext cx="3886200" cy="2667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ер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ој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виц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шље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виц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дикул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д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руг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тран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дикул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е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буду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иметричн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колик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шл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отац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ршљенских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ел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в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астој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симетрич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знац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бележавањ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ротац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дносн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симетри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едикул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уж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рстић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+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816520" y="3411360"/>
            <a:ext cx="1654200" cy="1624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60280" y="1060200"/>
            <a:ext cx="7127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Risser znac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4000" y="1989000"/>
          <a:ext cx="4176720" cy="3489480"/>
        </p:xfrm>
        <a:graphic>
          <a:graphicData uri="http://schemas.openxmlformats.org/drawingml/2006/table">
            <a:tbl>
              <a:tblPr/>
              <a:tblGrid>
                <a:gridCol w="977760"/>
                <a:gridCol w="319896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tadijum 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49280"/>
                          <a:tab algn="ctr" pos="2986200"/>
                          <a:tab algn="r" pos="59720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pofize još nisu vidljiv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tadijum 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ateralno na bedrenoj kosti počinje osifikacija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tadijum 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sifikacija bedrene kosti zahvata preko pola cirkuferencij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tadijum 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očetak zatvaranja epifize bedrene kosti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tadijum 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olovina epifize bedrene kosti je zatvorena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tadijum 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otpuno zatvaranje epifize bedrene kosti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Rectangle 26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4" name="Object 27"/>
          <p:cNvGraphicFramePr/>
          <p:nvPr/>
        </p:nvGraphicFramePr>
        <p:xfrm>
          <a:off x="4643280" y="2349360"/>
          <a:ext cx="4131000" cy="25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349360"/>
                    <a:ext cx="4131000" cy="2562480"/>
                  </a:xfrm>
                  <a:prstGeom prst="rect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45760" y="482040"/>
            <a:ext cx="8074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66"/>
                </a:solidFill>
                <a:latin typeface="Arial"/>
              </a:rPr>
              <a:t>Проблематика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6666"/>
                </a:solidFill>
                <a:latin typeface="Arial"/>
              </a:rPr>
              <a:t>нормалних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6666"/>
                </a:solidFill>
                <a:latin typeface="Arial"/>
              </a:rPr>
              <a:t>вредности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6666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6666"/>
                </a:solidFill>
                <a:latin typeface="Arial"/>
              </a:rPr>
              <a:t>процени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6666"/>
                </a:solidFill>
                <a:latin typeface="Arial"/>
              </a:rPr>
              <a:t>постуралног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6666"/>
                </a:solidFill>
                <a:latin typeface="Arial"/>
              </a:rPr>
              <a:t>став</a:t>
            </a:r>
            <a:r>
              <a:rPr b="0" lang="sr-Latn-CS" sz="2000" spc="-1" strike="noStrike">
                <a:solidFill>
                  <a:srgbClr val="006666"/>
                </a:solidFill>
                <a:latin typeface="Arial"/>
              </a:rPr>
              <a:t> – Staffel podela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3" descr="Haltungsschäden"/>
          <p:cNvPicPr/>
          <p:nvPr/>
        </p:nvPicPr>
        <p:blipFill>
          <a:blip r:embed="rId1"/>
          <a:stretch/>
        </p:blipFill>
        <p:spPr>
          <a:xfrm>
            <a:off x="250920" y="1844640"/>
            <a:ext cx="5740200" cy="2425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250920" y="4583520"/>
            <a:ext cx="5689440" cy="158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ик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казује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колиотичну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формацију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пуштеном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сном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опатицом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л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.4 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казује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краћење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дње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оже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адколенице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л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. 5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ред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краћења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адње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ложе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лаба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мускулатура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води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здубљеног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cc0000"/>
                </a:solidFill>
                <a:latin typeface="Arial"/>
              </a:rPr>
              <a:t>слабинског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ела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ичме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л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. 6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показује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обро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држање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спруженим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рукама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(“</a:t>
            </a:r>
            <a:r>
              <a:rPr b="0" lang="sr-Latn-CS" sz="1600" spc="-1" strike="noStrike">
                <a:solidFill>
                  <a:srgbClr val="003366"/>
                </a:solidFill>
                <a:latin typeface="Arial"/>
              </a:rPr>
              <a:t>Matthiass-Test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"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227640" y="1989000"/>
            <a:ext cx="2482920" cy="420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. 1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асно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очав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удубљен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абинск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де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ордоз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о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мерањ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рлиц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пред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р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рбуш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глутеалн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ускулатур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аба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л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. 2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казује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овезаност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наглашене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фозе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торакалне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чме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округла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еђа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лордозом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вратне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ичме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скапула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алатае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Оцена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постуралног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индекс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Ludvig, Mazet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Schmidt (2003)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кушал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бјективизират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ржањ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тел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ец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младин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то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моћу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Frohner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ндекс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(1997). Frohner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ндекс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дразумев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мерн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вредност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тављају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днос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обијен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лаз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указуј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омално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ржањ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дступањ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њег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р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том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анализирају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4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телесн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егмент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тернум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грудн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ифоз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лумбалн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лордоз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роминирањ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трбух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dex postural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60400" y="2894040"/>
          <a:ext cx="3228840" cy="2617920"/>
        </p:xfrm>
        <a:graphic>
          <a:graphicData uri="http://schemas.openxmlformats.org/drawingml/2006/table">
            <a:tbl>
              <a:tblPr/>
              <a:tblGrid>
                <a:gridCol w="1614600"/>
                <a:gridCol w="161424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ndex posturali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ocena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spod 0,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oše držanj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,9-1,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labo držanj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,0-1,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harmonično držanj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,2-1,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labo držanj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znad 1,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oše držanj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26" descr=""/>
          <p:cNvPicPr/>
          <p:nvPr/>
        </p:nvPicPr>
        <p:blipFill>
          <a:blip r:embed="rId1"/>
          <a:stretch/>
        </p:blipFill>
        <p:spPr>
          <a:xfrm>
            <a:off x="5265720" y="1484280"/>
            <a:ext cx="2735280" cy="4176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7"/>
          <p:cNvSpPr/>
          <p:nvPr/>
        </p:nvSpPr>
        <p:spPr>
          <a:xfrm>
            <a:off x="4405320" y="5876280"/>
            <a:ext cx="2282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osturalni indeks  po Fröchneru =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28"/>
              <p:cNvSpPr txBox="1"/>
              <p:nvPr/>
            </p:nvSpPr>
            <p:spPr>
              <a:xfrm>
                <a:off x="6867360" y="5715000"/>
                <a:ext cx="562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58600" y="767880"/>
            <a:ext cx="6617520" cy="11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ређењ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ормалног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лошег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стуралног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в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Експерт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с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сагласн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д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ј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лош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држањ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тел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код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дец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омладин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најчешћ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узрокован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мишићни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дисбланасо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слабос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скраћењ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мишићних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груп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739160" y="748440"/>
            <a:ext cx="71899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Мишић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груп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кој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нагињ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слабљењу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1.  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трбушн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мускула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2.   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седалн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рег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3.  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фиксатор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лопатиц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4.   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мишићн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груп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предел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торакалн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кичм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11440" y="1172160"/>
            <a:ext cx="7825320" cy="6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Мишић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груп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кој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нагињ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скраћењу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     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мускулатур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грудног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дел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m. pectoralis maj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     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леђн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мускулатур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предел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слабинск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кичм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3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     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прегибач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кук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m. iliopsoa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4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     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мишић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предњ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лож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надколениц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5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     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мишић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задњ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лож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подколениц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25320" y="686520"/>
            <a:ext cx="7541280" cy="106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6699"/>
                </a:solidFill>
                <a:latin typeface="Arial"/>
              </a:rPr>
              <a:t>Шематски</a:t>
            </a:r>
            <a:r>
              <a:rPr b="1" lang="sr-Latn-C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666699"/>
                </a:solidFill>
                <a:latin typeface="Arial"/>
              </a:rPr>
              <a:t>приказ</a:t>
            </a:r>
            <a:r>
              <a:rPr b="1" lang="sr-Latn-C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666699"/>
                </a:solidFill>
                <a:latin typeface="Arial"/>
              </a:rPr>
              <a:t>слабе</a:t>
            </a:r>
            <a:r>
              <a:rPr b="1" lang="sr-Latn-C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666699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666699"/>
                </a:solidFill>
                <a:latin typeface="Arial"/>
              </a:rPr>
              <a:t>скраћене</a:t>
            </a:r>
            <a:r>
              <a:rPr b="1" lang="sr-Latn-C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666699"/>
                </a:solidFill>
                <a:latin typeface="Arial"/>
              </a:rPr>
              <a:t>мускулатур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97180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Haltung"/>
          <p:cNvPicPr/>
          <p:nvPr/>
        </p:nvPicPr>
        <p:blipFill>
          <a:blip r:embed="rId1"/>
          <a:stretch/>
        </p:blipFill>
        <p:spPr>
          <a:xfrm>
            <a:off x="3274920" y="2706840"/>
            <a:ext cx="3770280" cy="326376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Анамне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нов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аријабл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ницијал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цијен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тарос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цијен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валу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гоб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осадашњ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о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осадашњ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ијагност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дузет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рапијск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ришће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тод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ункционал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валуаци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Рехабилитац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коли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нов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циљ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хабилитаци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спор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аустав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грес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колиоз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рек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стуралног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та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нали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краћен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лаб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шић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ставља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ндивидуалног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гра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коли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и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абрањ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изичк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Рехабилитац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коли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Немачко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Шпанији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појединачно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Италији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Француско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сматра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да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диференциран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амбулантни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кинезитерапијски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третман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по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chroth-u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примена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корзета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имају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значајан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ефекат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успоравање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напредовања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сколиотичне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кривине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колиозе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и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пор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372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-2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огуће су све спортске активност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ма специјалних захтев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епоручује се активно учешће у спортском васпитању</a:t>
                      </a:r>
                      <a:r>
                        <a:rPr b="0" lang="sr-Latn-C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sr-C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елесно васпитање</a:t>
                      </a:r>
                      <a:r>
                        <a:rPr b="0" lang="sr-Latn-C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12" descr="http://img502.imageshack.us/img502/2530/pfig2abcs9.gif"/>
          <p:cNvPicPr/>
          <p:nvPr/>
        </p:nvPicPr>
        <p:blipFill>
          <a:blip r:embed="rId1"/>
          <a:stretch/>
        </p:blipFill>
        <p:spPr>
          <a:xfrm>
            <a:off x="1752480" y="3200400"/>
            <a:ext cx="2190960" cy="20955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3"/>
          <p:cNvSpPr/>
          <p:nvPr/>
        </p:nvSpPr>
        <p:spPr>
          <a:xfrm>
            <a:off x="2444040" y="41148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-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колиозе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и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пор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17440" y="2563920"/>
          <a:ext cx="7202520" cy="2955960"/>
        </p:xfrm>
        <a:graphic>
          <a:graphicData uri="http://schemas.openxmlformats.org/drawingml/2006/table">
            <a:tbl>
              <a:tblPr/>
              <a:tblGrid>
                <a:gridCol w="3602160"/>
                <a:gridCol w="3600360"/>
              </a:tblGrid>
              <a:tr h="3267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-40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У основи су могуће све спиртске активности (забрана доскока и оптерећење кичменог стуба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репоручује се настава телесног васпитања у школ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 време спортске активности обавезно скинути ортоз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колиозе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и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пор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372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стоји ризик и треба узети у обзир евентуалне респираторне и друге ризико фактор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12" descr="http://t1.gstatic.com/images?q=tbn:ANd9GcQwcDl3vZegwqlclsne2v6Ak9oiCL8COKmo_P6ejuYn8xGfSxCy"/>
          <p:cNvPicPr/>
          <p:nvPr/>
        </p:nvPicPr>
        <p:blipFill>
          <a:blip r:embed="rId1"/>
          <a:stretch/>
        </p:blipFill>
        <p:spPr>
          <a:xfrm>
            <a:off x="1676520" y="2590920"/>
            <a:ext cx="2209680" cy="31845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3"/>
          <p:cNvSpPr/>
          <p:nvPr/>
        </p:nvSpPr>
        <p:spPr>
          <a:xfrm>
            <a:off x="2141280" y="4191120"/>
            <a:ext cx="12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eko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529640" y="462600"/>
            <a:ext cx="7379640" cy="113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6666"/>
                </a:solidFill>
                <a:latin typeface="Arial"/>
              </a:rPr>
              <a:t>Спортске</a:t>
            </a:r>
            <a:r>
              <a:rPr b="1" lang="sr-Latn-C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6666"/>
                </a:solidFill>
                <a:latin typeface="Arial"/>
              </a:rPr>
              <a:t>активности</a:t>
            </a:r>
            <a:r>
              <a:rPr b="1" lang="sr-Latn-C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6666"/>
                </a:solidFill>
                <a:latin typeface="Arial"/>
              </a:rPr>
              <a:t>након</a:t>
            </a:r>
            <a:r>
              <a:rPr b="1" lang="sr-Latn-C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6666"/>
                </a:solidFill>
                <a:latin typeface="Arial"/>
              </a:rPr>
              <a:t>операције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као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ко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сколиоз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о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21-40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степен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Генералн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препорук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завис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о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врст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операциј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спондилодез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став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оператор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Н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препоручуј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следећ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спортск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актив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J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ахањ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Вежбањ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н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под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Контакт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спортов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Врхунск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спортск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такмичењ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кој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захтевај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велик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напо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Скакањ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н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трамболин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Tabela"/>
          <p:cNvPicPr/>
          <p:nvPr/>
        </p:nvPicPr>
        <p:blipFill>
          <a:blip r:embed="rId1"/>
          <a:stretch/>
        </p:blipFill>
        <p:spPr>
          <a:xfrm>
            <a:off x="2232000" y="762120"/>
            <a:ext cx="377208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Преглед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физиотерапеу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бсерв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лп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нали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ону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нали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шић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наг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нали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би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кр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нали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рофи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укционал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ц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роз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пецифич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стов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Тераписки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Постављање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циље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ш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циљев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ункционал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оторичк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побљав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пецифич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циљев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дук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ретман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говорн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шић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наг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већа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би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крет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бољша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рофик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тимуал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алус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дук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стуралн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ремећа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Постављање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терапијског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програм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им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изикалн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генас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линичко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изиотерапеутско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лаз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им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ртотск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тетск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редста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ег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есн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им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инезитерап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им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дукацион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т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сихолошк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тпо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оциолошк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нтегр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нвалид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об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Програм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пецифичне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евалуациј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р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ранслаци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ичменог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туб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р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бар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грб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ануал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шић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овинск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инетичк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шићн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ланац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р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нтрактур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лиопсоа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р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спираторног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ндек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р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теп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риви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Избор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тераписких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процед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инезитерап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инезитерап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дер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портск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ктив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дук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цијена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дук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одитељ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арадњ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тали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чланови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и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едијатар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сихолог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ставни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изичког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аспитањ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29200" y="834120"/>
            <a:ext cx="7779960" cy="99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round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6666"/>
                </a:solidFill>
                <a:latin typeface="Arial"/>
              </a:rPr>
              <a:t>Дијагнос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2209680"/>
            <a:ext cx="7842240" cy="43149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прегле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м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пат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р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оугло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рен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оуг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рли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мишићни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тест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осовинских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кинетичких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лана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тракту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лвифеморал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бар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б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л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чме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уб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Дијагнос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i="1" lang="sr-Latn-CS" sz="2400" spc="-1" strike="noStrike">
                <a:solidFill>
                  <a:srgbClr val="008000"/>
                </a:solidFill>
                <a:latin typeface="Arial"/>
              </a:rPr>
              <a:t>RTG </a:t>
            </a:r>
            <a:r>
              <a:rPr b="1" i="1" lang="sr-CS" sz="2400" spc="-1" strike="noStrike">
                <a:solidFill>
                  <a:srgbClr val="008000"/>
                </a:solidFill>
                <a:latin typeface="Arial"/>
              </a:rPr>
              <a:t>дијагностика</a:t>
            </a:r>
            <a:r>
              <a:rPr b="0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71640" y="2248920"/>
            <a:ext cx="237636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Данас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као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најобјективнија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најједноставнија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метода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мерење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угла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кривине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сколиоза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узима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Lippman-Cobb-ova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техника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иако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још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увек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користи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 Ferguson-Risser-ova </a:t>
            </a: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техника</a:t>
            </a:r>
            <a:r>
              <a:rPr b="0" lang="sr-Latn-CS" sz="2000" spc="-1" strike="noStrike">
                <a:solidFill>
                  <a:srgbClr val="6666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5562720" y="2895480"/>
            <a:ext cx="1701720" cy="2997360"/>
          </a:xfrm>
          <a:prstGeom prst="rect">
            <a:avLst/>
          </a:prstGeom>
          <a:ln w="57240">
            <a:solidFill>
              <a:srgbClr val="99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8:08:28Z</dcterms:created>
  <dc:creator>Milorad Jevtic</dc:creator>
  <dc:description/>
  <dc:language>en-US</dc:language>
  <cp:lastModifiedBy>Kaca</cp:lastModifiedBy>
  <dcterms:modified xsi:type="dcterms:W3CDTF">2021-01-19T11:29:45Z</dcterms:modified>
  <cp:revision>25</cp:revision>
  <dc:subject/>
  <dc:title>Skoliosis</dc:title>
</cp:coreProperties>
</file>